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7499350" cy="978535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6600" y="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79160" y="1153800"/>
            <a:ext cx="2390760" cy="311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44560"/>
            <a:ext cx="555948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248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6600" y="877248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E516B-91B9-4DA9-A1F6-E0924813F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279520" y="1154160"/>
            <a:ext cx="2390760" cy="31179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4800" y="4444560"/>
            <a:ext cx="555948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36960" y="8772480"/>
            <a:ext cx="3011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DBA3D-DF65-4AE4-9862-A7883E3FB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A5D-1AB2-4239-9DC2-E23589C5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64659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5847120"/>
            <a:ext cx="64659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450-99E1-4FD2-B010-03DCC0F9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2860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003-BCFC-4CFF-87B1-0EC87D27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01800" y="260496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8080" y="260496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584712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01800" y="584712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88080" y="584712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EF8-0455-4FC1-930F-543A3BF7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2604960"/>
            <a:ext cx="6465960" cy="62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41C-E4F8-4E3D-8A6B-DDF718D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646596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2EF-D3BF-4AE0-9B67-071840BC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9BF-6FBF-484A-8F2A-EBCC2AFC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8D3-89C7-448D-88F2-86CFE286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520560"/>
            <a:ext cx="6465960" cy="87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A95-CDF8-4556-ADEC-7D1B585A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A9E-C712-4D56-B592-7428A6A3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2860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CEF-CB17-4809-A8C3-4B022FFD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5847120"/>
            <a:ext cx="64659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0C4-31FC-4B33-8B2D-51CAD872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2604960"/>
            <a:ext cx="646596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196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36720" indent="-18756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1112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67320"/>
            <a:ext cx="16858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2560" y="9067320"/>
            <a:ext cx="25318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95600" y="9067320"/>
            <a:ext cx="16858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CF125-4365-4FA2-8BEF-830F550E4354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3"/>
          <p:cNvSpPr/>
          <p:nvPr/>
        </p:nvSpPr>
        <p:spPr>
          <a:xfrm>
            <a:off x="409680" y="6823080"/>
            <a:ext cx="660384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Sophonius 3:8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Expect Me, saith the Lord,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 the day of My resurrection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at is to come ... to gather the Kingdoms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maryam 19:35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They said (in boast), "We killed Christ Jesus the son of Mary ...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ut they killed him 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Sophonius Chapter 3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Isaias 40:8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word of our Lord endureth 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8680" y="114480"/>
            <a:ext cx="7353360" cy="95929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22400" y="19692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he  “koran”  itself  proves  ...  “allah”  does  not  exi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2400" y="777960"/>
            <a:ext cx="723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“islam” coalition claims to be ... from God’s covenant with Abraham ... proven 100% false below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112680" y="936720"/>
            <a:ext cx="724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impl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GIC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dictates ... ther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ANNOT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be ... a so called “god” ... who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TRADICTS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himsel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12920" y="8753400"/>
            <a:ext cx="684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1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group called “islam” claims to be from God’s covenant with Abraham ... which this handout proves is fals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2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“koran” ... 100% contradicts the Abraham covenant Old Testament writings ... Mohammed did this in th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</a:t>
            </a:r>
            <a:r>
              <a:rPr b="0" lang="en-US" sz="800" spc="-1" strike="noStrike" u="sng" baseline="30000">
                <a:solidFill>
                  <a:srgbClr val="000000"/>
                </a:solidFill>
                <a:uFillTx/>
                <a:latin typeface="Tahoma"/>
                <a:ea typeface="Tahoma"/>
              </a:rPr>
              <a:t>th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century A.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3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God of Abraham states ... over and over in the Old Testament ... that He doe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“change His mind”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4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You cannot have ... a last “prophet of God” (Mohammed) who contradicts ... 4,000 years of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eviou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(true) prophet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5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“koran” is thereby proven false ... “islam” is not a religion ... there is no “allah”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6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Since there is no “allah” ... there is no “allah” the “muslims” need to kill for ... as the “koran” and “hadith” direct the “muslims”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7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“islam” apostasy from the truth ...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ausing th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s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of all souls who subscribe to it.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leas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help those in the “islam” apostas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112680" y="2630520"/>
            <a:ext cx="724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Tahoma"/>
              </a:rPr>
              <a:t>~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oofs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elow  &gt;   The “koran” is wrong  ...  “islam” is not a religion  ...  Mohammed is no prophet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Tahoma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409680" y="3071880"/>
            <a:ext cx="660384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roverbs 30:4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Who hath ascended up into Heaven, and descended ?   What is the name of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is So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if thou knowest ?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maryam 19:35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It is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efitting to (the majesty of) Allah that He should beget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so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Proverbs Chapter 30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alachias 3:6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For I am the Lord, and I change not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879480" y="1236600"/>
            <a:ext cx="58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ree examples ... where “islam”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laims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to be ... from God’s Old Testament covenant with Abraham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e will quickly see below ... that this is a complet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i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241200" y="1501920"/>
            <a:ext cx="405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"koran" in ... al-baqara 2:130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And who, unless he be weak of mind, would want to aband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braham's cree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09680" y="4946760"/>
            <a:ext cx="660384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Genesis 18:1-3 -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he Lo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appeared to him ... there appeared to him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hree Me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And he said: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if I have found favour in thy sight ..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an-nisa 4:171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Believe ... and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o not say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"(God is) a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rinity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 Desist (from this assertion) for your own good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Genesis Chapter 18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116:2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truth of the Lord remaineth 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41200" y="1843200"/>
            <a:ext cx="405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"koran" in ... al-imran 3:84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e believe in ... that which has bee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stowed upon Abraha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         Etc., etc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241200" y="2182680"/>
            <a:ext cx="418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"koran" in ... al-baqara 2:136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best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laim to Abraha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are surely those who follow him - as does this Prophet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129280" y="1571760"/>
            <a:ext cx="2006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5145120" y="1600200"/>
            <a:ext cx="2033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 following comparisons between the “koran” and the Old Testament Abraham covenant prophesies (of Christianity)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Prove ..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islam” has nothing to do with Abraham’s covenant.  Examples of mistakes by “allah”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... who “islam” amazingly claims to be Go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"/>
          <p:cNvSpPr/>
          <p:nvPr/>
        </p:nvSpPr>
        <p:spPr>
          <a:xfrm rot="5400000">
            <a:off x="5003640" y="6088320"/>
            <a:ext cx="44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” extracts from  &gt;  www.islamicity.com  &gt;  Yusef Ali translation into Englis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8680" y="438120"/>
            <a:ext cx="735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ince there i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“allah” ... the “muslims” don’t need to kill for “allah”.    Includes proofs “islam” i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a religio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592200" y="50760"/>
            <a:ext cx="6313320" cy="14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58800" y="7920"/>
            <a:ext cx="6180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REASONS WHY ... A GREAT MANY PEOPLE LEAVE “ISLAM”    </a:t>
            </a:r>
            <a:r>
              <a:rPr b="1" i="1" lang="en-US" sz="9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~  ~</a:t>
            </a:r>
            <a:r>
              <a:rPr b="1" i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THE SIMPLE A-B-C LOGIC ... WHICH DIRECTS TO LEAVE “ISLAM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811840" y="3071880"/>
            <a:ext cx="120168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1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962680" y="5319720"/>
            <a:ext cx="105084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2 “islam” is a fab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5811840" y="6823080"/>
            <a:ext cx="1201680" cy="33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3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122400" y="2809800"/>
            <a:ext cx="72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Note:  It is ...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MPOSSIBLE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.. to discriminate against “muslims” based on religion ... since “islam” is not a religion</a:t>
            </a:r>
            <a:r>
              <a:rPr b="1" lang="en-US" sz="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5"/>
          <p:cNvSpPr/>
          <p:nvPr/>
        </p:nvSpPr>
        <p:spPr>
          <a:xfrm rot="16200000">
            <a:off x="-2533680" y="5451480"/>
            <a:ext cx="56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4:3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O ye sons of men ... how long will you ... why do you ... seek after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lying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(Abraham covenant writing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5783400" y="338148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Caution: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Never ending Hell is a long time to be wro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5781600" y="713412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Caution: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Never ending Hell is a long time to be wro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traight Arrow Connector 19"/>
          <p:cNvCxnSpPr/>
          <p:nvPr/>
        </p:nvCxnSpPr>
        <p:spPr>
          <a:xfrm flipV="1">
            <a:off x="4514400" y="1788480"/>
            <a:ext cx="529200" cy="19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5" name="Straight Arrow Connector 48"/>
          <p:cNvCxnSpPr/>
          <p:nvPr/>
        </p:nvCxnSpPr>
        <p:spPr>
          <a:xfrm>
            <a:off x="4514400" y="2150640"/>
            <a:ext cx="505800" cy="19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6" name="Right Brace 1"/>
          <p:cNvSpPr/>
          <p:nvPr/>
        </p:nvSpPr>
        <p:spPr>
          <a:xfrm>
            <a:off x="4248000" y="1655640"/>
            <a:ext cx="193680" cy="819360"/>
          </a:xfrm>
          <a:custGeom>
            <a:avLst/>
            <a:gdLst>
              <a:gd name="textAreaLeft" fmla="*/ 0 w 193680"/>
              <a:gd name="textAreaRight" fmla="*/ 69840 w 193680"/>
              <a:gd name="textAreaTop" fmla="*/ 5040 h 819360"/>
              <a:gd name="textAreaBottom" fmla="*/ 814320 h 8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74"/>
                </a:lnTo>
                <a:cubicBezTo>
                  <a:pt x="10800" y="10587"/>
                  <a:pt x="16200" y="10800"/>
                  <a:pt x="21600" y="10800"/>
                </a:cubicBezTo>
                <a:cubicBezTo>
                  <a:pt x="16200" y="10800"/>
                  <a:pt x="10800" y="11013"/>
                  <a:pt x="10800" y="11226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8160" y="8624880"/>
            <a:ext cx="728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  <a:ea typeface="Tahoma"/>
              </a:rPr>
              <a:t>~  ~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Summary of this worksheet 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  <a:ea typeface="Tahoma"/>
              </a:rPr>
              <a:t>~  ~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10"/>
          <p:cNvSpPr/>
          <p:nvPr/>
        </p:nvSpPr>
        <p:spPr>
          <a:xfrm>
            <a:off x="244440" y="2575080"/>
            <a:ext cx="6994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44"/>
          <p:cNvSpPr/>
          <p:nvPr/>
        </p:nvSpPr>
        <p:spPr>
          <a:xfrm>
            <a:off x="244440" y="720720"/>
            <a:ext cx="6994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45"/>
          <p:cNvSpPr/>
          <p:nvPr/>
        </p:nvSpPr>
        <p:spPr>
          <a:xfrm>
            <a:off x="244440" y="1201680"/>
            <a:ext cx="6994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5"/>
          <p:cNvSpPr/>
          <p:nvPr/>
        </p:nvSpPr>
        <p:spPr>
          <a:xfrm>
            <a:off x="4551480" y="2062080"/>
            <a:ext cx="5205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55760" y="4119480"/>
            <a:ext cx="276876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  <a:ea typeface="Times New Roman"/>
              </a:rPr>
              <a:t>Etc, etc, etc ... More  &gt;  Section 113  &gt;  www.Gods-Christian-Dogma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31920" y="2166840"/>
            <a:ext cx="5570280" cy="204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OW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did all-knowing “allah” ... make thi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AM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mistake ...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31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time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during the Old Testament, with this one ?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31920" y="185760"/>
            <a:ext cx="680400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Daniel 3:92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In the midst of the fire ... there is no hurt in them, and the form of the fourth is like th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n of Go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al-ikhlas 112:2-3 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Allah, the Eternal, Absolute; H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getteth 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nor is He begotten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Daniel Chapter 3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118:89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O Lord, Thy word standeth firm in Heaven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8680" y="58680"/>
            <a:ext cx="7353360" cy="9648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331920" y="2367000"/>
            <a:ext cx="6804000" cy="185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Genesis 17:19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And thou shalt call his nam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aac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and I will establish My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venant with hi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for a perpetual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venan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al-baqara 2:125 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And We covenanted with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braham and Isma'i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that they should sanctify My House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Genesis Chapter 17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irty-one (31) times during the Old Testament ... “allah” says the covenant is with Isaac ... then changes to Ismael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110:8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All ... confirmed 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and ever, made in truth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31920" y="4403880"/>
            <a:ext cx="6804000" cy="217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Additional applicable points  ...  Reference website  ...  for below Section numbers  &gt;  www.Gods-Christian-Dogm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1. It is impossible ... to discriminate against “muslims” based on religion ... because “islam” is not a religion.    Section 1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2. The group called “islam” is a man-made fable ... which masquerades as a religion ... as it breaks commandment after commandmen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3. God’s covenant is one of Faith.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see 2:20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- God of Abraham covenant writing &gt; “And I will espouse thee to M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 fai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 Section 13.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4. There is no ... “religious test” being undertaken by not permitting “muslims” into a country ... because “islam” is not a religion.    Section 113.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5. Whoever dies in the un-baptized (theological) pagan state ... descends into Hell with all the heretics.    Sections 7,  7.2,  7.2.1,  7.2.2,  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6. God identifie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0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times there i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on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hristianity ...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25,000 “versions”.   Eph 3:5 &gt; “One lord, one Faith, one Baptism”    Sections 8.4 &amp; 8.4.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7. The vatican-2 heretic cult (founded in 1965) ... Which continuously praises “islam”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 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the Catholic Church (founded in 33 AD).    Section 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5905440" y="185760"/>
            <a:ext cx="122724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4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58680" y="6267600"/>
            <a:ext cx="7353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Bad news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  The “koran” and “hadith”  ...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o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ay to kill us (non-muslims)  ...  for the non-existent “allah”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600" y="668664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l ahzab 33:61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They shall have a curse on them: whenever they are found, they shall be seized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nd slai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(without mercy)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600" y="70167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l anfal 8:60 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ke terro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into (the hearts of) the enemies, of Allah and your enemies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66600" y="734544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li imran 3:151 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Soon shall w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ast terro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into the hearts of the unbelievers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14480" y="9228240"/>
            <a:ext cx="723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 Antiqua"/>
              </a:rPr>
              <a:t>~          ~          ~          ~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600" y="8004240"/>
            <a:ext cx="719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muslim book 19 : 4321 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R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Murder the women and children for non-existent “allah”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Prophet of Allah ... when asked about the women and children of the polytheists being killed during the night raid, said: They are from them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6600" y="76755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n nisa 4:76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ight in the caus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of Allah, and those who reject faith ...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igh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ye against the friends of Satan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66600" y="83343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muslim book 19 : 4294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Fight in the name of Allah ... Fight against those who disbelieve in Allah. Make holy war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66600" y="866304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bukhari book 52 : 073 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R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Kill for paradise ... a “reward from allah” ... who doesn’t exist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Allah's Apostle said, Know that Paradise is under the shades of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word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66600" y="89931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bukhari 52 : 53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Allah's Apostle said ... I have been made victorious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ith terro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 (“hadith” = associated text of the “koran”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2920" y="9472680"/>
            <a:ext cx="719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ank-you for permitting us ... to help you identify ... that “islam” is not from Heaven.   Untold numbers of people leave i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04760" y="6477120"/>
            <a:ext cx="726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o that ... the killing i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lam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...  and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“radical islam”.     The “muslim” killer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re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following their books, perio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5905440" y="2367000"/>
            <a:ext cx="1227240" cy="3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5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2"/>
          <p:cNvSpPr/>
          <p:nvPr/>
        </p:nvSpPr>
        <p:spPr>
          <a:xfrm>
            <a:off x="6095880" y="6730920"/>
            <a:ext cx="1316160" cy="397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 one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is ..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“radicalized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 muslims are follow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ir “koran” and “hadith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4"/>
          <p:cNvSpPr/>
          <p:nvPr/>
        </p:nvSpPr>
        <p:spPr>
          <a:xfrm>
            <a:off x="5695920" y="7656480"/>
            <a:ext cx="1716120" cy="401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More like koran and hadith extracts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www.Gods-Christian-Dogma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Sections 113.4  and  113.4.1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4"/>
          <p:cNvSpPr/>
          <p:nvPr/>
        </p:nvSpPr>
        <p:spPr>
          <a:xfrm>
            <a:off x="5772240" y="7188120"/>
            <a:ext cx="1639800" cy="403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So that ..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 constant worldwide drumbeat ... that terrorism is not part of “islam” ... are </a:t>
            </a:r>
            <a:r>
              <a:rPr b="1" lang="en-US" sz="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ll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li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4"/>
          <p:cNvSpPr/>
          <p:nvPr/>
        </p:nvSpPr>
        <p:spPr>
          <a:xfrm rot="5400000">
            <a:off x="5605920" y="4590360"/>
            <a:ext cx="33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re on these subjects  &gt;  www.Gods-Christian-Dogm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82"/>
          <p:cNvSpPr/>
          <p:nvPr/>
        </p:nvSpPr>
        <p:spPr>
          <a:xfrm>
            <a:off x="5695920" y="8988480"/>
            <a:ext cx="1716120" cy="45252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handout avail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On Appendix A-1 &gt; Item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www.Gods-Christian-Dogm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5905440" y="2693880"/>
            <a:ext cx="1227240" cy="1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Etc ... More &gt; Section 11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4"/>
          <p:cNvSpPr/>
          <p:nvPr/>
        </p:nvSpPr>
        <p:spPr>
          <a:xfrm>
            <a:off x="5419800" y="8407440"/>
            <a:ext cx="1992240" cy="412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No one can get to Heaven ..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in the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un-baptized (theological) pagan state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Proven on Sections  &gt;  7,  7.2,  7.2.1,  7.2.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9"/>
          <p:cNvSpPr/>
          <p:nvPr/>
        </p:nvSpPr>
        <p:spPr>
          <a:xfrm rot="16200000">
            <a:off x="-1296000" y="4699800"/>
            <a:ext cx="29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” extracts from &gt;  www.hadithcollectio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5904000" y="50472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Caution: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Never ending Hell is a long time to be wro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1T12:58:49Z</dcterms:created>
  <dc:creator>Mike Bizzaro</dc:creator>
  <dc:description/>
  <dc:language>en-US</dc:language>
  <cp:lastModifiedBy>Mike Bizzaro</cp:lastModifiedBy>
  <cp:lastPrinted>2018-06-22T21:05:07Z</cp:lastPrinted>
  <dcterms:modified xsi:type="dcterms:W3CDTF">2018-06-27T13:41:12Z</dcterms:modified>
  <cp:revision>279</cp:revision>
  <dc:subject/>
  <dc:title>PowerPoint Presentation</dc:title>
</cp:coreProperties>
</file>